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18960"/>
            <a:ext cx="0" cy="62341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76320"/>
            <a:ext cx="7682040" cy="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79560" cy="11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0960" y="630396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CF0C-725E-45EB-BA9C-A3265C014BD5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D2A1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52524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age Wartime Strength Reporting/Accounting Syste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355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057400"/>
            <a:ext cx="75945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Wartime Strength Reporting/Accounting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44480"/>
            <a:ext cx="75945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manage the wartime strength reporting/accounting system and access to AR 600-8-6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3880" y="2128680"/>
            <a:ext cx="7569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Ensured that the Wartime Personnel Accounting Strength Reporting (PASR) System is properly managed at the Battalion (BN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080" y="1976400"/>
            <a:ext cx="82551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Ensured that the Wartime (PASR) System is properly managed at the Brigade (Bde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7080" y="1976400"/>
            <a:ext cx="82551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Ensured that the Wartime (PASR) System is properly managed at the Personnel Support Battalion (PSB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7080" y="1973160"/>
            <a:ext cx="825516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. Managed the Wartime PASR System at the Division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080" y="1973160"/>
            <a:ext cx="825516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 Managed the Wartime PASR System at the Corps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SR Information Flo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2840" y="1392120"/>
            <a:ext cx="6289560" cy="508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20:01:02Z</dcterms:created>
  <dc:creator>ADG</dc:creator>
  <dc:description/>
  <dc:language>en-US</dc:language>
  <cp:lastModifiedBy>Administrator</cp:lastModifiedBy>
  <cp:lastPrinted>2000-01-19T22:46:15Z</cp:lastPrinted>
  <dcterms:modified xsi:type="dcterms:W3CDTF">2005-07-08T18:55:27Z</dcterms:modified>
  <cp:revision>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